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C9D-ADD1-4D93-99F2-DBFF4921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F99-274A-48DC-8A56-691F619D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4CB-291F-4E19-BCF6-DE5D9140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6EC-B35D-4FA4-A79C-0436E3FF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24CA-F940-4F62-885D-E0DA4ADF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539F-A549-403D-9711-1B4615BA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CCB1-0699-4C1A-945D-91049E5D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811E-EA1A-43A4-BA70-BA144C17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AFD1-B0AD-4FD3-BED1-516BD6A9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E5EC-E74B-444B-B6E2-B0995300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5E3D-C7A8-4D4D-9EAC-451823B5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7A9-38C8-489A-8182-21F58787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3042-FFFC-402C-9578-E9CCEA2E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7E82-7683-44EF-95A1-5FADE8B7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C5D6-566A-46ED-BFEC-A7481644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1D59-38DA-43FC-93F8-4D92C412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2399-FE63-4342-A8B3-43E12356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AC6D-259D-43A2-B167-D976BB49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680F5-2E47-450A-B66B-F651E25A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75A1-8AFF-48D1-BD45-DF794062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E443B-BBE3-474A-A744-25897928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07EE-4B68-4686-A4D9-7B8EC09E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717-60E5-4244-A1AA-B800C1A4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FE361-CC00-42A6-8904-A9CE8495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FFD1-3344-4136-A2CC-81388BA3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FC4B-84E0-4498-A1C1-405ACBCA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B8873-0565-4CBF-9C33-4EEED09F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843F-CDBF-4327-A775-17D5DCA6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7BC26-3567-47AC-9504-1371350B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8051-C17A-42B5-8A3B-A264921D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08634-AB30-433E-AD2D-EA8F05A0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CD053-B1CE-40DF-BCAA-6784FBD6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8B4C0-D53C-4186-8478-37538B7E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DCD-09C5-484D-B8B3-2AA0FCCF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FE6FA-357B-4EBB-8F8B-4A87B833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A0CB-95E9-494C-B84A-E5E79CA1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9DB89-71C0-4BA9-89FE-AF77BE07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DEE58-123C-4915-A6FB-9C7EFF26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2D225-DF88-4599-8959-A12234F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58B7-26AD-45C6-A286-EB2B67AE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B0011-1DD8-469C-BCD4-F2AED9F2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60CE-0244-44F1-9753-43A55E1D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5256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8440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7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5256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8440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7D4D0-7CFA-4B28-B2F9-CB0CA6CF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ED6-3135-4BA9-8CF6-5E8D55F0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9D2-29B0-441C-9D87-CD6CD70B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47A-1EE8-4978-A1BF-2867F664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8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E75-2B0E-4D35-AF7E-34465E2E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8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4DD-AAEF-492F-8919-8E97B0E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ADEC9-2359-46BB-AAEC-6307F370E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15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67080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67080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67080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F688B-244A-45CF-A112-FDB734A26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65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0592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71280" y="6743520"/>
            <a:ext cx="2338200" cy="5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699000" y="6743520"/>
            <a:ext cx="3186000" cy="5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720" y="6743520"/>
            <a:ext cx="2338560" cy="5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FD90B-8708-4DCF-9C69-762170CABAE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72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76360" y="6527520"/>
            <a:ext cx="23428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52752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55000" y="6527520"/>
            <a:ext cx="23428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758A9-E5FF-43F2-AD10-427DE6D6F45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bskids.org/democracy/be-president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hyperlink" Target="http://magazines.scholastic.com/election-2012" TargetMode="External"/><Relationship Id="rId6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1360" y="733320"/>
            <a:ext cx="906948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ivaldi"/>
              </a:rPr>
              <a:t>Presidential Issues By Iss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143000" y="3473280"/>
            <a:ext cx="3429000" cy="3841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3200400" cy="3718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.000004768372"/>
                                  </p:iterate>
                                  <p:childTnLst>
                                    <p:set>
                                      <p:cBhvr>
                                        <p:cTn id="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14640" y="255600"/>
            <a:ext cx="61149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ivaldi"/>
              </a:rPr>
              <a:t>Economy and Jobs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4057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valdi"/>
              </a:rPr>
              <a:t>Barack Obama s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15720">
              <a:lnSpc>
                <a:spcPct val="102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valdi"/>
              </a:rPr>
              <a:t>If he wasn't president everything would be a mess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14680" y="1483920"/>
            <a:ext cx="40575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97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valdi"/>
                <a:ea typeface="Arial Unicode MS"/>
              </a:rPr>
              <a:t>Mitt Romney 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080" indent="-290160">
              <a:lnSpc>
                <a:spcPct val="102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valdi"/>
                <a:ea typeface="Arial Unicode MS"/>
              </a:rPr>
              <a:t>That Obama didn't do enough to create n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080" indent="-290160">
              <a:lnSpc>
                <a:spcPct val="102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valdi"/>
                <a:ea typeface="Arial Unicode MS"/>
              </a:rPr>
              <a:t>He is arguing that the extra money would enable companies to hire move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371600" y="4572000"/>
            <a:ext cx="3429000" cy="2470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943600" y="5257800"/>
            <a:ext cx="3200400" cy="18892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.9999976158142"/>
                                  </p:iterate>
                                  <p:childTnLst>
                                    <p:set>
                                      <p:cBhvr>
                                        <p:cTn id="16" dur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68544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ivaldi"/>
              </a:rPr>
              <a:t>Healthc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240" y="2061720"/>
            <a:ext cx="40575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valdi"/>
              </a:rPr>
              <a:t>Barack Obama 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valdi"/>
              </a:rPr>
              <a:t>That  he points out that he signed the affordable care 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valdi"/>
              </a:rPr>
              <a:t>The 2010 law is giving millions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86040" y="1806120"/>
            <a:ext cx="40575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valdi"/>
                <a:ea typeface="Arial Unicode MS"/>
              </a:rPr>
              <a:t>Mitt Romney 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valdi"/>
                <a:ea typeface="Arial Unicode MS"/>
              </a:rPr>
              <a:t>Affordable care act is increase health care cost for Americans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743200" cy="3032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371600" y="5029200"/>
            <a:ext cx="3429000" cy="2013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28800" y="618840"/>
            <a:ext cx="86724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Vivaldi"/>
              </a:rPr>
              <a:t>Tax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01320" y="2066760"/>
            <a:ext cx="40561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ivaldi"/>
              </a:rPr>
              <a:t>Barack Obama 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ivaldi"/>
              </a:rPr>
              <a:t>He wants to cut taxes to make things much easy to buy with out people complaining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519880" y="2128680"/>
            <a:ext cx="40557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valdi"/>
                <a:ea typeface="Arial Unicode MS"/>
              </a:rPr>
              <a:t>Mitt Romney 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valdi"/>
                <a:ea typeface="Arial Unicode MS"/>
              </a:rPr>
              <a:t>He want to do the same as Barack Obama is going to do about the taxe</a:t>
            </a:r>
            <a:r>
              <a:rPr b="0" lang="en-US" sz="3200" spc="-1" strike="noStrike">
                <a:solidFill>
                  <a:srgbClr val="ff0000"/>
                </a:solidFill>
                <a:latin typeface="Curlz MT"/>
                <a:ea typeface="Arial Unicode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4080" y="4800600"/>
            <a:ext cx="3705120" cy="2241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172200" y="4572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28800" y="828360"/>
            <a:ext cx="867240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 u="sng">
                <a:solidFill>
                  <a:srgbClr val="ff0000"/>
                </a:solidFill>
                <a:uFillTx/>
                <a:latin typeface="Curlz MT"/>
              </a:rPr>
              <a:t>War and National Defe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61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6000"/>
          </a:bodyPr>
          <a:p>
            <a:pPr marL="368640" indent="-278640">
              <a:lnSpc>
                <a:spcPct val="100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urlz MT"/>
              </a:rPr>
              <a:t>Barack Obama s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8640" indent="-278640">
              <a:lnSpc>
                <a:spcPct val="100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urlz MT"/>
              </a:rPr>
              <a:t>He wants to continue focusing defeating al – Qaeda in Afghanistan and Pakista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519880" y="2128320"/>
            <a:ext cx="40557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4000"/>
          </a:bodyPr>
          <a:p>
            <a:pPr marL="360000" indent="-272160">
              <a:lnSpc>
                <a:spcPct val="100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urlz MT"/>
                <a:ea typeface="Arial Unicode MS"/>
              </a:rPr>
              <a:t>Mitt Romney say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0000" indent="-272160">
              <a:lnSpc>
                <a:spcPct val="100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urlz MT"/>
                <a:ea typeface="Arial Unicode MS"/>
              </a:rPr>
              <a:t>That military presence in Afghanistan and determine whether troops can be withdraw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 u="sng">
                <a:solidFill>
                  <a:srgbClr val="ff0000"/>
                </a:solidFill>
                <a:uFillTx/>
                <a:latin typeface="Curlz MT"/>
              </a:rPr>
              <a:t>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urlz MT"/>
              </a:rPr>
              <a:t>Barack Obama 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01400" indent="-29772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urlz MT"/>
              </a:rPr>
              <a:t>Continue to encourage education  reform through the rac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39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urlz MT"/>
                <a:ea typeface="Arial Unicode MS"/>
              </a:rPr>
              <a:t>Mitt Romney 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urlz MT"/>
                <a:ea typeface="Arial Unicode MS"/>
              </a:rPr>
              <a:t>Shift power from the federal level to the state level to empower governor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360" y="584280"/>
            <a:ext cx="90694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32160" cy="428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rack Obama 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pport the dream act of respone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64200" y="1913040"/>
            <a:ext cx="4232160" cy="428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Mitt Romney says the same as Barack Obama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324080" y="3657600"/>
            <a:ext cx="3705120" cy="3384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7432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1" dur="20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2" dur="20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 u="sng">
                <a:solidFill>
                  <a:srgbClr val="ff0000"/>
                </a:solidFill>
                <a:uFillTx/>
                <a:latin typeface="Vivaldi"/>
              </a:rPr>
              <a:t>Reso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98040" y="2057040"/>
            <a:ext cx="8674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bskids.org/democracy/be-presid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172200" y="2971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324080" y="3243240"/>
            <a:ext cx="3705120" cy="2471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662120" y="1790640"/>
            <a:ext cx="633888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esources in class and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lectr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resourc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here:</a:t>
            </a:r>
            <a:br>
              <a:rPr sz="1200"/>
            </a:br>
            <a:r>
              <a:rPr b="0" lang="en-US" sz="26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/>
              </a:rPr>
              <a:t>http://magazines.scholastic.com/election-2012</a:t>
            </a:r>
            <a:br>
              <a:rPr sz="1200"/>
            </a:br>
            <a:br>
              <a:rPr sz="1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 L 0.036 0.04797 L 0.072 0.04797 L 0.072 0.09594 L 0.108 0.09594 L 0.108 0.14391 L 0.144 0.14391 L 0.144 0.19188 L 0.18 0.19188 L 0.18 0.23985 L 0.216 0.23985 L 0.216 0.28782 L 0.252 0.28782 L 0.252 0.33579 E">
                                      <p:cBhvr>
                                        <p:cTn id="55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4:16:47Z</dcterms:created>
  <dc:creator/>
  <dc:description/>
  <dc:language>en-US</dc:language>
  <cp:lastModifiedBy/>
  <cp:revision>0</cp:revision>
  <dc:subject/>
  <dc:title/>
</cp:coreProperties>
</file>